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021-577E-42F1-91A3-3152840A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92D-1903-4F30-BA15-573ABBCB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B69-6AE5-47ED-B385-541DE132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71F-FA42-4F65-896E-3DA16105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AA74-D43C-4BB1-87C0-8A7E7EF8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A044-F7BA-4748-887E-CD7FBF65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7176-F7A1-425F-AAC1-813DB2B3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41A2-D1A5-4D3C-908B-B066F8F0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1C0F-3383-41D8-A030-7C2E5394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688D-4275-4C49-B865-6E874243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0C0C-BE22-4B1B-B5BC-0AA91AD9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A30-E246-45AA-9F20-2D5562C9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A6AB-2BE5-4E2B-92B9-332C66B8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E6DD-2E72-45C8-B55C-96D84353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9EE-AE99-47A8-999F-34F98244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4EC5-E44D-4F68-9BCD-228C87D9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A103-C7E9-492D-B1A9-F12E2D1D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DB4-BD85-42F5-93AF-F67AAEEE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233-C1A6-4DCE-9476-C1CCA9D5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570-353F-41B0-AACD-7BBA00C6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3FB-ABA4-453C-92A3-FF770E5C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A9C-6D34-4435-948E-B779CC65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4C8-5DC2-4BB1-8ADD-65F49E4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CCB-A157-45C9-97BF-12B44ADF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71B5-CAF8-4601-91D7-A484583D7040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928D-B8AF-4400-B60C-3138FE59BD77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2204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2204"/>
                </a:solidFill>
                <a:latin typeface="Arial"/>
              </a:rPr>
              <a:t>Google Accounts</a:t>
            </a:r>
            <a:endParaRPr b="0" lang="en-US" sz="36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143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Get Going with Blog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t’s take a look at each others log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ha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How does this work address the </a:t>
            </a:r>
            <a:br>
              <a:rPr sz="3600"/>
            </a:b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questions that began the session?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209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One way that we can use a blog is to copy and paste our class notes. Or to post 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ocusing Questions</a:t>
            </a:r>
            <a:br>
              <a:rPr sz="4400"/>
            </a:b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What is the purpose of a blog?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How do I create a blog?</a:t>
            </a:r>
            <a:br>
              <a:rPr sz="2800"/>
            </a:b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Instruction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aming The Ses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gn-up for a gmail account at gmail.co</a:t>
            </a: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Use you newly created gmail username and password to create a blog on Google. COM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Go to gmail.com.  Sign-up for gmai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Use the first letter of you name combined with you last name and is223 as your user name at gmail.</a:t>
            </a:r>
            <a:br>
              <a:rPr sz="3200"/>
            </a:br>
            <a:r>
              <a:rPr b="1" i="1" lang="en-US" sz="3200" spc="-1" strike="noStrike">
                <a:solidFill>
                  <a:srgbClr val="212164"/>
                </a:solidFill>
                <a:latin typeface="Arial"/>
              </a:rPr>
              <a:t>Example: jperezis223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Choose a password which is easy to rememb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Guided Pract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reate an ISquad Blog using Googl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gn-in at Google.com using your gmail username and password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My Accoun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- Choos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Blogger</a:t>
            </a:r>
            <a:br>
              <a:rPr sz="3200"/>
            </a:b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Create a </a:t>
            </a:r>
            <a:r>
              <a:rPr b="0" lang="en-US" sz="4000" spc="-1" strike="noStrike">
                <a:solidFill>
                  <a:srgbClr val="212164"/>
                </a:solidFill>
                <a:latin typeface="Arial"/>
              </a:rPr>
              <a:t>Blog</a:t>
            </a:r>
            <a:br>
              <a:rPr sz="4000"/>
            </a:b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Name the Blog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: Use your 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first name your school number ('s) ISquad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as the title for your blog.</a:t>
            </a: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For example, 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Joseis223's ISquad Blo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2) Name the Blog Address: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Again use your first name followed by your school number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3) Choose a Template and press continu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4) You are done. You are ready to begin posting. Click: </a:t>
            </a: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Start Posting.</a:t>
            </a:r>
            <a:br>
              <a:rPr sz="2400"/>
            </a:b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Work Time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art Post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12164"/>
                </a:solidFill>
                <a:latin typeface="Arial"/>
              </a:rPr>
              <a:t>Post a message briefly explaining how to create a blog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7-11-17T19:03:54Z</dcterms:modified>
  <cp:revision>6</cp:revision>
  <dc:subject/>
  <dc:title>Workshop Title</dc:title>
</cp:coreProperties>
</file>